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B9B-4949-49DC-99C7-CBDE555D2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from 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749B-1F54-4997-A83F-B8528709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in corners and then share as a larg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7830-F7A4-4ABB-8398-CE7DE5B0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65D-ECC7-4DBF-AA88-A83C252F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A3B-D461-467D-BFE9-DB04176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C73-3B47-4AF6-954C-3FEB07AB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C73-7FA7-4D14-843B-3919CC52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942-4FE1-4B6C-B961-BEAA4C3C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F61-B805-4270-9EF7-9008CEEB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FAF-130B-4F66-A5CF-1E61FDBE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C4D-16FD-4A64-A558-67A2A79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6A2-7E28-42F5-90AF-3177D518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427-557A-4F91-9717-38ABD15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F55-EA6D-4F8D-95CA-B2B00CE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033-F789-47D9-B143-9A0011D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531B-FFA1-4F5E-9928-F3EF33916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Learning Goals and Consolidating Question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Problem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figure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reating Consolidating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consolidating question that would be appropriate for this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85800" y="1828800"/>
            <a:ext cx="80010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consolidation questions connected to the Big Ideas and 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learning goals connected to Big Ideas and curriculum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using the Posing Powerful Questions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airy Queen Mini Blizzard Commercial.wmv" descr=""/>
          <p:cNvPicPr/>
          <p:nvPr/>
        </p:nvPicPr>
        <p:blipFill>
          <a:blip r:embed="rId1"/>
          <a:stretch/>
        </p:blipFill>
        <p:spPr>
          <a:xfrm>
            <a:off x="282600" y="533520"/>
            <a:ext cx="8578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do some math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one or two of the problems on the page provided.  Ensure that each problem on the page is completed by at least one person at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666880" y="4267080"/>
            <a:ext cx="5562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en’s questions from 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1904760"/>
            <a:ext cx="7772400" cy="4221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1280" indent="-3412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nything else go in here about the arti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ing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057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arian’s session, we are looking for consolidating question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out a big ide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ome useful aspect of a relevant expectat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 to proportional think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ing a consolidating ques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57200" y="205740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Examine the Posing Powerful Questions template provided.  You should 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A lesso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e curriculum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Part of the lesson (question from yester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oments to try the lesson activity if you didn’t choose this on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four possible consolidating questions provided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which question you think best fits the criteria for a good consolidating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the corner for the consolidating question that you chose.  Spend a few minutes talking with others about why you chose the question you d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12:59:04Z</dcterms:created>
  <dc:creator>Liisa Suurtamm</dc:creator>
  <dc:description/>
  <dc:language>en-US</dc:language>
  <cp:lastModifiedBy>Liisa Suurtamm</cp:lastModifiedBy>
  <dcterms:modified xsi:type="dcterms:W3CDTF">2010-08-10T23:34:47Z</dcterms:modified>
  <cp:revision>212</cp:revision>
  <dc:subject/>
  <dc:title>Slide 1</dc:title>
</cp:coreProperties>
</file>